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FA70-6DCF-4920-9A39-433DA8094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96D3-62A8-465D-B2BA-805384505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FB1D-7B12-4897-83E9-4CB495894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DBAC-D5A8-4C11-98A4-54FA1EB18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DEDC4-9919-49BD-A7B6-57E82A755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F1779-817A-4D9F-BCA0-D15D1799F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CB9EA-45AD-46BF-9A43-9065F4B3C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876A1-F3D1-4BB9-8B08-263796E20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31B12-F7D7-443E-A8EC-D41CB125E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1C1A4-6FF7-4C87-A2A0-91899B961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7EEE8-E17D-417D-9C97-7851CE8E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9B67-D76B-4D02-8F3C-EB4666715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B0E4D-1B9A-4BEF-971C-B28C6849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4D122-10AC-452E-B39D-A36640C7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EC14B-BAEB-4133-A84E-BF3D46583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6E61D-1D08-496D-8614-135D655F6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B2717-729F-4A2B-A578-85EAF3197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26FA-328B-47B7-ACF2-294F7A8D8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CAA1-5C14-4470-8903-A74D1F6E1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0B26-C234-45D4-AAC0-F7D6F715B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7F71-8CBA-496E-BBE0-B8CBFDEDF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EBC7-AFDE-44E1-A564-12FEEB83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EC23-C663-4A44-A543-31E19770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4762-6A84-47B1-B0E5-4699142B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2E882-4B81-4F9A-8576-EE779F9D30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55F49-9A13-4636-95E0-B491AB1AF0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rush Script MT"/>
              </a:rPr>
              <a:t>Russian Movement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gi"/>
              </a:rPr>
              <a:t>By: Sai Allu and Nhi Tru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gi"/>
              </a:rPr>
              <a:t>Period 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53352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hiller"/>
              </a:rPr>
              <a:t>Ways of Transport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ush Script MT"/>
              </a:rPr>
              <a:t>B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ush Script MT"/>
              </a:rPr>
              <a:t>Ca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ush Script MT"/>
              </a:rPr>
              <a:t>Sub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ush Script MT"/>
              </a:rPr>
              <a:t>Bi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ush Script MT"/>
              </a:rPr>
              <a:t>Walk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ush Script MT"/>
              </a:rPr>
              <a:t>Trai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ush Script MT"/>
              </a:rPr>
              <a:t>Carriages pulled by hor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ush Script MT"/>
              </a:rPr>
              <a:t>Inland Water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5" descr="horsey"/>
          <p:cNvPicPr/>
          <p:nvPr/>
        </p:nvPicPr>
        <p:blipFill>
          <a:blip r:embed="rId1"/>
          <a:stretch/>
        </p:blipFill>
        <p:spPr>
          <a:xfrm>
            <a:off x="4038480" y="3276720"/>
            <a:ext cx="4800600" cy="3195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train_front"/>
          <p:cNvPicPr/>
          <p:nvPr/>
        </p:nvPicPr>
        <p:blipFill>
          <a:blip r:embed="rId2"/>
          <a:stretch/>
        </p:blipFill>
        <p:spPr>
          <a:xfrm>
            <a:off x="6629400" y="685800"/>
            <a:ext cx="2127240" cy="2286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500"/>
                            </p:stCondLst>
                            <p:childTnLst>
                              <p:par>
                                <p:cTn id="5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500"/>
                            </p:stCondLst>
                            <p:childTnLst>
                              <p:par>
                                <p:cTn id="7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Bradley Hand ITC"/>
              </a:rPr>
              <a:t>Disadvantag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rte"/>
              </a:rPr>
              <a:t>Transportation takes a long and is uncomfor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rte"/>
              </a:rPr>
              <a:t>Goes through the Ural Mountai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rte"/>
              </a:rPr>
              <a:t>Inland waterways are important, but many long rivers drain north into the frigid Arctic Ocean and freeze in the winte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4" descr="Ural mountain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Snap ITC"/>
              </a:rPr>
              <a:t>Problem of the Land that Affects Transporta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Handwriting"/>
              </a:rPr>
              <a:t>Russia is very large, so Trans-Siberian Railroad costs a lot of money. Especially from Moscow to Vladivosto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Handwriting"/>
              </a:rPr>
              <a:t>Has very few road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Handwriting"/>
              </a:rPr>
              <a:t>In the east part it is very mountaino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Brush Script MT"/>
              </a:rPr>
              <a:t>Transportation in Moscow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6840" y="15998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etro is all one zone there is no special zon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etro is open from 5:20 A.M to 1:00 A.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ush hours for the metro in Moscow are 8:00 A.M. to 9:00 A.M. and 17:00 P.M. to 19:00 P.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tting around Moscow by metro and public transport | waytorussia.net p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9:18:07Z</dcterms:created>
  <dc:creator> </dc:creator>
  <dc:description/>
  <dc:language>en-US</dc:language>
  <cp:lastModifiedBy>sai pulukuri</cp:lastModifiedBy>
  <dcterms:modified xsi:type="dcterms:W3CDTF">2010-12-16T22:16:48Z</dcterms:modified>
  <cp:revision>7</cp:revision>
  <dc:subject/>
  <dc:title>Russian Movement </dc:title>
</cp:coreProperties>
</file>